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5.jpeg" ContentType="image/jpeg"/>
  <Override PartName="/ppt/media/image26.jpeg" ContentType="image/jpeg"/>
  <Override PartName="/ppt/media/image14.jpeg" ContentType="image/jpeg"/>
  <Override PartName="/ppt/media/image39.jpeg" ContentType="image/jpeg"/>
  <Override PartName="/ppt/media/image8.png" ContentType="image/png"/>
  <Override PartName="/ppt/media/image9.jpeg" ContentType="image/jpeg"/>
  <Override PartName="/ppt/media/image36.jpeg" ContentType="image/jpeg"/>
  <Override PartName="/ppt/media/image6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20.jpeg" ContentType="image/jpeg"/>
  <Override PartName="/ppt/media/image31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32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1"/>
          </p:nvPr>
        </p:nvSpPr>
        <p:spPr>
          <a:xfrm>
            <a:off x="3971520" y="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38320" y="685440"/>
            <a:ext cx="4674960" cy="350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5480" y="4421160"/>
            <a:ext cx="511812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2"/>
          </p:nvPr>
        </p:nvSpPr>
        <p:spPr>
          <a:xfrm>
            <a:off x="-360" y="876600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3"/>
          </p:nvPr>
        </p:nvSpPr>
        <p:spPr>
          <a:xfrm>
            <a:off x="3971520" y="8766000"/>
            <a:ext cx="2978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33872A-CB2A-4CE5-AC82-4C2D50DE7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1880" y="8766000"/>
            <a:ext cx="297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30931D-7614-40F8-8BC1-6107A3A4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383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5480" y="4421160"/>
            <a:ext cx="51181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591F-1D79-40F2-AAC6-CB278CA8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4F2-93C5-43CF-977D-FE9F2A14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14EB-8C01-4503-BDFA-3456A10B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80FD-374D-45DF-8FDB-4450F6F9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FD28-0E65-4D24-9056-315D96F8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E84F-5416-4DE0-B242-08DC2961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358E-B6E1-4158-B972-63AA9DD7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314A-7857-404A-9E5E-AF01712F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537B-2957-4D89-8309-4AB3C496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3BE1-9C2B-4E15-9DED-6C5B64FC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A3F3-75CA-436B-B48A-79DAD743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EE0-A9D4-4122-A6B1-6894AF36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7E14-CAFB-42D6-9809-9A576EEF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C5BF-3197-450E-A636-E15B8960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5A31-713B-44CF-8C83-7024E368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C6E2-384E-4E91-9276-586895A7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074D-FD8B-49C5-9B96-9A5BA998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FA714-1FE4-49D4-AB29-94D3CAEB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F269B-9406-4A41-885D-89665D2E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E0559-17F5-4784-995E-1BCAB615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7BCA-30C5-4C84-A328-AC25F7DC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D13FB-A498-4D10-BFC5-D7091045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C69-530A-4412-B379-02157FA6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308C6-C9C2-4C7F-9CE5-50DE3EBF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E24D0-799E-4470-84BC-0CBD21BF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774F-035E-4AC8-A7B3-76D3AC5E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9ABF-8354-4F7F-BDB5-B1600548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32F1-FFFE-4EF4-B88F-2BE351AC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84678-63D1-41FC-B79C-817AFC69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CE62-2D48-476E-B8B0-CBF26C8A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907D-BBEB-43DA-A08D-96146872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9D6D-6EDC-4D4E-9A11-BDE8928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D6E5-C853-428B-A8E0-085953BB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223-6F05-427D-9790-AEDD96A7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98D48-F1D8-4F7D-88B2-8B312118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50521-E38A-4874-B91D-129524F6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4AD01-703F-46E9-981F-DB2C4E30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5E0D-DA85-4E85-9BCF-7A323937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73B0-29A2-42D5-8EA8-B49B3DDE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198A0-9A0F-4873-9940-30207BCE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3B7D7-D656-42B9-BC14-9B21BF36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0A8FC-BFE8-4B28-BC8C-C6FD9BD6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3783-B5BB-4517-8AEF-57B3EB094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621B-EBD7-4EDA-91B3-6DB8F203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F6AE-CB70-4606-989F-8956C3F5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3FA-5D33-4BB2-8A95-7986BE00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A446-00B9-4509-BF07-E6916730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5E3-7A02-471C-BB94-BEF3D747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4d4d4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23DC-4647-4408-90A0-2D8BCBBA5B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760F-F843-4687-9D45-A65EFDA6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nsf1.gif"/>
          <p:cNvPicPr/>
          <p:nvPr/>
        </p:nvPicPr>
        <p:blipFill>
          <a:blip r:embed="rId4"/>
          <a:stretch/>
        </p:blipFill>
        <p:spPr>
          <a:xfrm>
            <a:off x="8001000" y="76320"/>
            <a:ext cx="1066680" cy="1074600"/>
          </a:xfrm>
          <a:prstGeom prst="rect">
            <a:avLst/>
          </a:prstGeom>
          <a:ln w="0">
            <a:noFill/>
          </a:ln>
        </p:spPr>
      </p:pic>
      <p:sp>
        <p:nvSpPr>
          <p:cNvPr id="6" name="Text Box 10"/>
          <p:cNvSpPr/>
          <p:nvPr/>
        </p:nvSpPr>
        <p:spPr>
          <a:xfrm>
            <a:off x="181080" y="700200"/>
            <a:ext cx="21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5c00"/>
                </a:solidFill>
                <a:latin typeface="Arial"/>
              </a:rPr>
              <a:t>OFFICE OF </a:t>
            </a:r>
            <a:r>
              <a:rPr b="0" lang="en-US" sz="1400" spc="-1" strike="noStrike">
                <a:solidFill>
                  <a:srgbClr val="135c00"/>
                </a:solidFill>
                <a:latin typeface="Arial Black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New_DOE_Logo_Color_042808"/>
          <p:cNvPicPr/>
          <p:nvPr/>
        </p:nvPicPr>
        <p:blipFill>
          <a:blip r:embed="rId5"/>
          <a:stretch/>
        </p:blipFill>
        <p:spPr>
          <a:xfrm>
            <a:off x="22320" y="39600"/>
            <a:ext cx="240660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nsf1.gif"/>
          <p:cNvPicPr/>
          <p:nvPr/>
        </p:nvPicPr>
        <p:blipFill>
          <a:blip r:embed="rId3"/>
          <a:stretch/>
        </p:blipFill>
        <p:spPr>
          <a:xfrm>
            <a:off x="8001000" y="76320"/>
            <a:ext cx="1066680" cy="1074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181080" y="700200"/>
            <a:ext cx="21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5c00"/>
                </a:solidFill>
                <a:latin typeface="Arial"/>
              </a:rPr>
              <a:t>OFFICE OF </a:t>
            </a:r>
            <a:r>
              <a:rPr b="0" lang="en-US" sz="1400" spc="-1" strike="noStrike">
                <a:solidFill>
                  <a:srgbClr val="135c00"/>
                </a:solidFill>
                <a:latin typeface="Arial Black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New_DOE_Logo_Color_042808"/>
          <p:cNvPicPr/>
          <p:nvPr/>
        </p:nvPicPr>
        <p:blipFill>
          <a:blip r:embed="rId4"/>
          <a:stretch/>
        </p:blipFill>
        <p:spPr>
          <a:xfrm>
            <a:off x="22320" y="39600"/>
            <a:ext cx="2406600" cy="606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4d4d4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C2EE-26E0-4641-9FE5-49CDB60C042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E6D6-81EB-44AF-BEEE-FA375E40E6A8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nsf1.gif"/>
          <p:cNvPicPr/>
          <p:nvPr/>
        </p:nvPicPr>
        <p:blipFill>
          <a:blip r:embed="rId3"/>
          <a:stretch/>
        </p:blipFill>
        <p:spPr>
          <a:xfrm>
            <a:off x="8001000" y="76320"/>
            <a:ext cx="1066680" cy="1074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181080" y="700200"/>
            <a:ext cx="21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5c00"/>
                </a:solidFill>
                <a:latin typeface="Arial"/>
              </a:rPr>
              <a:t>OFFICE OF </a:t>
            </a:r>
            <a:r>
              <a:rPr b="0" lang="en-US" sz="1400" spc="-1" strike="noStrike">
                <a:solidFill>
                  <a:srgbClr val="135c00"/>
                </a:solidFill>
                <a:latin typeface="Arial Black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" descr="New_DOE_Logo_Color_042808"/>
          <p:cNvPicPr/>
          <p:nvPr/>
        </p:nvPicPr>
        <p:blipFill>
          <a:blip r:embed="rId4"/>
          <a:stretch/>
        </p:blipFill>
        <p:spPr>
          <a:xfrm>
            <a:off x="22320" y="39600"/>
            <a:ext cx="2406600" cy="60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4d4d4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4C4B-C1ED-4CC3-BAF0-9139EDBFBB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25FE-79CA-4F32-8F09-1000C888F8F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nsf1.gif"/>
          <p:cNvPicPr/>
          <p:nvPr/>
        </p:nvPicPr>
        <p:blipFill>
          <a:blip r:embed="rId3"/>
          <a:stretch/>
        </p:blipFill>
        <p:spPr>
          <a:xfrm>
            <a:off x="8001000" y="76320"/>
            <a:ext cx="1066680" cy="10746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181080" y="700200"/>
            <a:ext cx="21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5c00"/>
                </a:solidFill>
                <a:latin typeface="Arial"/>
              </a:rPr>
              <a:t>OFFICE OF </a:t>
            </a:r>
            <a:r>
              <a:rPr b="0" lang="en-US" sz="1400" spc="-1" strike="noStrike">
                <a:solidFill>
                  <a:srgbClr val="135c00"/>
                </a:solidFill>
                <a:latin typeface="Arial Black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9" descr="New_DOE_Logo_Color_042808"/>
          <p:cNvPicPr/>
          <p:nvPr/>
        </p:nvPicPr>
        <p:blipFill>
          <a:blip r:embed="rId4"/>
          <a:stretch/>
        </p:blipFill>
        <p:spPr>
          <a:xfrm>
            <a:off x="22320" y="39600"/>
            <a:ext cx="2406600" cy="6066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4d4d4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CFAF-1A5A-4972-AE54-8790815E176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BDB9-8055-490A-881A-874E7AA3DBAE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nsf1.gif"/>
          <p:cNvPicPr/>
          <p:nvPr/>
        </p:nvPicPr>
        <p:blipFill>
          <a:blip r:embed="rId3"/>
          <a:stretch/>
        </p:blipFill>
        <p:spPr>
          <a:xfrm>
            <a:off x="8001000" y="76320"/>
            <a:ext cx="1066680" cy="10746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0"/>
          <p:cNvSpPr/>
          <p:nvPr/>
        </p:nvSpPr>
        <p:spPr>
          <a:xfrm>
            <a:off x="181080" y="700200"/>
            <a:ext cx="21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5c00"/>
                </a:solidFill>
                <a:latin typeface="Arial"/>
              </a:rPr>
              <a:t>OFFICE OF </a:t>
            </a:r>
            <a:r>
              <a:rPr b="0" lang="en-US" sz="1400" spc="-1" strike="noStrike">
                <a:solidFill>
                  <a:srgbClr val="135c00"/>
                </a:solidFill>
                <a:latin typeface="Arial Black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9" descr="New_DOE_Logo_Color_042808"/>
          <p:cNvPicPr/>
          <p:nvPr/>
        </p:nvPicPr>
        <p:blipFill>
          <a:blip r:embed="rId4"/>
          <a:stretch/>
        </p:blipFill>
        <p:spPr>
          <a:xfrm>
            <a:off x="22320" y="39600"/>
            <a:ext cx="2406600" cy="6066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B474-9384-49E9-8F6F-7D3AAB3B7FEA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4d4d4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0722-5358-4799-A8F5-98A3362D0E2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nsf1.gif"/>
          <p:cNvPicPr/>
          <p:nvPr/>
        </p:nvPicPr>
        <p:blipFill>
          <a:blip r:embed="rId3"/>
          <a:stretch/>
        </p:blipFill>
        <p:spPr>
          <a:xfrm>
            <a:off x="8001000" y="76320"/>
            <a:ext cx="1066680" cy="10746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181080" y="700200"/>
            <a:ext cx="21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5c00"/>
                </a:solidFill>
                <a:latin typeface="Arial"/>
              </a:rPr>
              <a:t>OFFICE OF </a:t>
            </a:r>
            <a:r>
              <a:rPr b="0" lang="en-US" sz="1400" spc="-1" strike="noStrike">
                <a:solidFill>
                  <a:srgbClr val="135c00"/>
                </a:solidFill>
                <a:latin typeface="Arial Black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New_DOE_Logo_Color_042808"/>
          <p:cNvPicPr/>
          <p:nvPr/>
        </p:nvPicPr>
        <p:blipFill>
          <a:blip r:embed="rId4"/>
          <a:stretch/>
        </p:blipFill>
        <p:spPr>
          <a:xfrm>
            <a:off x="22320" y="39600"/>
            <a:ext cx="2406600" cy="6066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8A07-0EB2-492B-BA90-CA5154BB8DA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4d4d4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B183-4FB3-46AE-963C-5C523AC6F0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nsf1.gif"/>
          <p:cNvPicPr/>
          <p:nvPr/>
        </p:nvPicPr>
        <p:blipFill>
          <a:blip r:embed="rId3"/>
          <a:stretch/>
        </p:blipFill>
        <p:spPr>
          <a:xfrm>
            <a:off x="8001000" y="76320"/>
            <a:ext cx="1066680" cy="10746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0"/>
          <p:cNvSpPr/>
          <p:nvPr/>
        </p:nvSpPr>
        <p:spPr>
          <a:xfrm>
            <a:off x="181080" y="700200"/>
            <a:ext cx="21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5c00"/>
                </a:solidFill>
                <a:latin typeface="Arial"/>
              </a:rPr>
              <a:t>OFFICE OF </a:t>
            </a:r>
            <a:r>
              <a:rPr b="0" lang="en-US" sz="1400" spc="-1" strike="noStrike">
                <a:solidFill>
                  <a:srgbClr val="135c00"/>
                </a:solidFill>
                <a:latin typeface="Arial Black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9" descr="New_DOE_Logo_Color_042808"/>
          <p:cNvPicPr/>
          <p:nvPr/>
        </p:nvPicPr>
        <p:blipFill>
          <a:blip r:embed="rId4"/>
          <a:stretch/>
        </p:blipFill>
        <p:spPr>
          <a:xfrm>
            <a:off x="22320" y="39600"/>
            <a:ext cx="2406600" cy="6066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E2F8-61BD-45F2-ADB5-ACCC0A85F05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4d4d4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78B1-5B7E-46FE-A5FD-CF2674C4F42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nsf1.gif"/>
          <p:cNvPicPr/>
          <p:nvPr/>
        </p:nvPicPr>
        <p:blipFill>
          <a:blip r:embed="rId3"/>
          <a:stretch/>
        </p:blipFill>
        <p:spPr>
          <a:xfrm>
            <a:off x="8001000" y="76320"/>
            <a:ext cx="1066680" cy="107460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0"/>
          <p:cNvSpPr/>
          <p:nvPr/>
        </p:nvSpPr>
        <p:spPr>
          <a:xfrm>
            <a:off x="181080" y="700200"/>
            <a:ext cx="211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5c00"/>
                </a:solidFill>
                <a:latin typeface="Arial"/>
              </a:rPr>
              <a:t>OFFICE OF </a:t>
            </a:r>
            <a:r>
              <a:rPr b="0" lang="en-US" sz="1400" spc="-1" strike="noStrike">
                <a:solidFill>
                  <a:srgbClr val="135c00"/>
                </a:solidFill>
                <a:latin typeface="Arial Black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9" descr="New_DOE_Logo_Color_042808"/>
          <p:cNvPicPr/>
          <p:nvPr/>
        </p:nvPicPr>
        <p:blipFill>
          <a:blip r:embed="rId4"/>
          <a:stretch/>
        </p:blipFill>
        <p:spPr>
          <a:xfrm>
            <a:off x="22320" y="39600"/>
            <a:ext cx="2406600" cy="6066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6ABD-CD53-4411-B9C1-B89C13A29088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4d4d4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9FAC-183E-4E7E-9BB7-8CDB0161023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457200" y="1089000"/>
            <a:ext cx="8153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Large Synoptic Survey Telescop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04920" y="3276720"/>
            <a:ext cx="8534160" cy="24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ews since the May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Astronomy &amp; Astrophysics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November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Fred Borcherding/Nigel Sharp/Kathy Tu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44F3-2599-4CD2-8319-4ADC2E4CDAA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D4A9-59E4-4836-B689-E7EC929CC42B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itle 1"/>
          <p:cNvSpPr/>
          <p:nvPr/>
        </p:nvSpPr>
        <p:spPr>
          <a:xfrm>
            <a:off x="343080" y="5351400"/>
            <a:ext cx="6637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itle 1"/>
          <p:cNvSpPr/>
          <p:nvPr/>
        </p:nvSpPr>
        <p:spPr>
          <a:xfrm>
            <a:off x="4286160" y="936360"/>
            <a:ext cx="473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Tahoma"/>
                <a:ea typeface="Arial"/>
              </a:rPr>
              <a:t>Secondary mirror optical fabrication – bids reviewed, vendor selected, approval in h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ubstrate completed 11/09; in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Baseline scope - po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Optional scope - cell assembly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8" descr=""/>
          <p:cNvPicPr/>
          <p:nvPr/>
        </p:nvPicPr>
        <p:blipFill>
          <a:blip r:embed="rId1"/>
          <a:stretch/>
        </p:blipFill>
        <p:spPr>
          <a:xfrm>
            <a:off x="149400" y="949320"/>
            <a:ext cx="4136760" cy="2479680"/>
          </a:xfrm>
          <a:prstGeom prst="rect">
            <a:avLst/>
          </a:prstGeom>
          <a:ln w="0">
            <a:noFill/>
          </a:ln>
        </p:spPr>
      </p:pic>
      <p:sp>
        <p:nvSpPr>
          <p:cNvPr id="402" name="Title 1"/>
          <p:cNvSpPr/>
          <p:nvPr/>
        </p:nvSpPr>
        <p:spPr>
          <a:xfrm>
            <a:off x="73080" y="3612960"/>
            <a:ext cx="571824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Tahoma"/>
                <a:ea typeface="Arial"/>
              </a:rPr>
              <a:t>Plant propagation continues at leveled telescope site in Ch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All environmental permits appro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Vibrant desert ecosyst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rogram of rescue, relocation, and propagation to save endangered species has continu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First specimen of Sandillón (Eriocyce aurata), propagated in a Univ. of La Serena laboratory, has been relocated to the greenhouse on Cerro Pach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Note that excavation provided level platforms and verified structural rock condi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Content Placeholder 4" descr="DSC08729.JPG"/>
          <p:cNvPicPr/>
          <p:nvPr/>
        </p:nvPicPr>
        <p:blipFill>
          <a:blip r:embed="rId2"/>
          <a:stretch/>
        </p:blipFill>
        <p:spPr>
          <a:xfrm>
            <a:off x="5700600" y="5114880"/>
            <a:ext cx="3284640" cy="139392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5" descr="seedlings-th.jpg"/>
          <p:cNvPicPr/>
          <p:nvPr/>
        </p:nvPicPr>
        <p:blipFill>
          <a:blip r:embed="rId3"/>
          <a:stretch/>
        </p:blipFill>
        <p:spPr>
          <a:xfrm>
            <a:off x="5715000" y="3284640"/>
            <a:ext cx="3284640" cy="1379520"/>
          </a:xfrm>
          <a:prstGeom prst="rect">
            <a:avLst/>
          </a:prstGeom>
          <a:ln w="0">
            <a:noFill/>
          </a:ln>
        </p:spPr>
      </p:pic>
      <p:sp>
        <p:nvSpPr>
          <p:cNvPr id="405" name="Title 1"/>
          <p:cNvSpPr/>
          <p:nvPr/>
        </p:nvSpPr>
        <p:spPr>
          <a:xfrm>
            <a:off x="2362320" y="228600"/>
            <a:ext cx="596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ecent Project Accomplis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228600"/>
            <a:ext cx="596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ecent Project Accomplis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3" descr="CCD250_in_Dewar"/>
          <p:cNvPicPr/>
          <p:nvPr/>
        </p:nvPicPr>
        <p:blipFill>
          <a:blip r:embed="rId1"/>
          <a:stretch/>
        </p:blipFill>
        <p:spPr>
          <a:xfrm>
            <a:off x="5052960" y="1120680"/>
            <a:ext cx="3929040" cy="2700360"/>
          </a:xfrm>
          <a:prstGeom prst="rect">
            <a:avLst/>
          </a:prstGeom>
          <a:ln w="0">
            <a:noFill/>
          </a:ln>
        </p:spPr>
      </p:pic>
      <p:sp>
        <p:nvSpPr>
          <p:cNvPr id="408" name="Content Placeholder 2"/>
          <p:cNvSpPr/>
          <p:nvPr/>
        </p:nvSpPr>
        <p:spPr>
          <a:xfrm>
            <a:off x="57240" y="1116000"/>
            <a:ext cx="496728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Fully functional prototype sensors rece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meets major requirements (noise, format, sensitivity, flatnes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or yield demonstration bids received - order underw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on track to place sensor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ticle contract at the end of 20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itle 1"/>
          <p:cNvSpPr/>
          <p:nvPr/>
        </p:nvSpPr>
        <p:spPr>
          <a:xfrm>
            <a:off x="343080" y="5351400"/>
            <a:ext cx="6637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itle 1"/>
          <p:cNvSpPr/>
          <p:nvPr/>
        </p:nvSpPr>
        <p:spPr>
          <a:xfrm>
            <a:off x="3848040" y="4205880"/>
            <a:ext cx="5076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Novel refrigerator developed and tes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 focal plane (3,277 Megapixels) requires unprecedented cool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capacity mixed-refrigerant system is new for astronomical came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w testing long transport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21" descr=""/>
          <p:cNvPicPr/>
          <p:nvPr/>
        </p:nvPicPr>
        <p:blipFill>
          <a:blip r:embed="rId2"/>
          <a:stretch/>
        </p:blipFill>
        <p:spPr>
          <a:xfrm>
            <a:off x="228600" y="3422520"/>
            <a:ext cx="3395520" cy="33274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1F13-EC93-428D-A550-9362E84A9A19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lsst-camera.jpg"/>
          <p:cNvPicPr/>
          <p:nvPr/>
        </p:nvPicPr>
        <p:blipFill>
          <a:blip r:embed="rId1"/>
          <a:stretch/>
        </p:blipFill>
        <p:spPr>
          <a:xfrm>
            <a:off x="5837400" y="4033800"/>
            <a:ext cx="3274920" cy="23414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743200" y="205920"/>
            <a:ext cx="495288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LSSTCam 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28600" y="1203120"/>
            <a:ext cx="8610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>
              <a:lnSpc>
                <a:spcPct val="100000"/>
              </a:lnSpc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 camera Project;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une 20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Mission Need Statement signed for a “Stage IV” experiment; Critical Decision 0 (CD-0) approved;  costs now accrue towards MIE total project cost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v. 20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successful “Lehman” review of the camera project; in preparation for requesting CD-1 approval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ril 4, 20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– CD-1 approval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3FY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– (planned @ CD-1) Approve Long Lead Procurements [ CD-3a ] – commence spending equipment money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4FY1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– (planned @ CD-1) Approve Performance Baseline [ CD-2 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4FY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– (planned @ CD-1) Approve Start of Construction [ CD-3b ]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1FY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– (planned @ CD-1) Approve Project Completion [ CD-4 ]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>
              <a:lnSpc>
                <a:spcPct val="100000"/>
              </a:lnSpc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AC – lead lab in Camera Project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>
              <a:lnSpc>
                <a:spcPct val="100000"/>
              </a:lnSpc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NL – major contributor for sensors and testin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>
              <a:lnSpc>
                <a:spcPct val="100000"/>
              </a:lnSpc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– other labs and universities contribute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45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CBC9-145A-4334-B8C0-4C2D276B2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CE91-0293-4BAA-B35C-14449B6BBFE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LSST-telescope.jpg"/>
          <p:cNvPicPr/>
          <p:nvPr/>
        </p:nvPicPr>
        <p:blipFill>
          <a:blip r:embed="rId1"/>
          <a:stretch/>
        </p:blipFill>
        <p:spPr>
          <a:xfrm>
            <a:off x="5638680" y="3633840"/>
            <a:ext cx="3319560" cy="28512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38280" y="205920"/>
            <a:ext cx="563904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oint Project – HEP view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48840" y="2346120"/>
            <a:ext cx="525780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>
              <a:buClr>
                <a:srgbClr val="285c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5c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285c00"/>
                </a:solidFill>
                <a:latin typeface="Tahoma"/>
              </a:rPr>
              <a:t>HEP is coordinating project planning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5c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285c00"/>
                </a:solidFill>
                <a:latin typeface="Tahoma"/>
              </a:rPr>
              <a:t>with NSF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272880">
              <a:buClr>
                <a:srgbClr val="285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Holding regular meetings of the Joint Oversight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Group (JOG)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272880">
              <a:buClr>
                <a:srgbClr val="285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Holding regular meetings with NSF and LSSTC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Project Team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272880">
              <a:buClr>
                <a:srgbClr val="285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HEP reviews will be attended by NSF; at least one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DOE review per year and 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272880">
              <a:buClr>
                <a:srgbClr val="285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285c00"/>
                </a:solidFill>
                <a:latin typeface="Tahoma"/>
              </a:rPr>
              <a:t>NSF reviews will be attended by HEP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3" marL="272880">
              <a:buClr>
                <a:srgbClr val="285c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lvl="2">
              <a:buClr>
                <a:srgbClr val="285c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5c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285c00"/>
                </a:solidFill>
                <a:latin typeface="Tahoma"/>
              </a:rPr>
              <a:t>HEP project schedule based on Q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85c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285c00"/>
                </a:solidFill>
                <a:latin typeface="Tahoma"/>
              </a:rPr>
              <a:t>FY2014 NSF MREFC project start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61CD-B5EA-4CBB-991E-BEB92BAAC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5" descr="LSST field of view compared to moon.jpg"/>
          <p:cNvPicPr/>
          <p:nvPr/>
        </p:nvPicPr>
        <p:blipFill>
          <a:blip r:embed="rId2"/>
          <a:stretch/>
        </p:blipFill>
        <p:spPr>
          <a:xfrm>
            <a:off x="6324480" y="1523880"/>
            <a:ext cx="2268720" cy="212436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0AEE-154B-431A-96A0-C2754EEE53CF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Content Placeholder 2"/>
          <p:cNvSpPr/>
          <p:nvPr/>
        </p:nvSpPr>
        <p:spPr>
          <a:xfrm>
            <a:off x="228600" y="142884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85c00"/>
                </a:solidFill>
                <a:uFillTx/>
                <a:latin typeface="Tahoma"/>
                <a:ea typeface="ＭＳ Ｐゴシック"/>
              </a:rPr>
              <a:t>LSST – Large Synoptic Survey Tele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187B-4AFB-4AD4-BF1C-663FAD61178E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itle 1"/>
          <p:cNvSpPr/>
          <p:nvPr/>
        </p:nvSpPr>
        <p:spPr>
          <a:xfrm>
            <a:off x="2657520" y="169920"/>
            <a:ext cx="53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ecent NSF-DOE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itle 1"/>
          <p:cNvSpPr/>
          <p:nvPr/>
        </p:nvSpPr>
        <p:spPr>
          <a:xfrm>
            <a:off x="5257800" y="4616280"/>
            <a:ext cx="3637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Dark Energy Camera First Light 9/12/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4" descr="fornax_mosaic.jpg"/>
          <p:cNvPicPr/>
          <p:nvPr/>
        </p:nvPicPr>
        <p:blipFill>
          <a:blip r:embed="rId1"/>
          <a:srcRect l="0" t="19215" r="0" b="18670"/>
          <a:stretch/>
        </p:blipFill>
        <p:spPr>
          <a:xfrm>
            <a:off x="192240" y="1071720"/>
            <a:ext cx="4865400" cy="56577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NGC1365.jpg"/>
          <p:cNvPicPr/>
          <p:nvPr/>
        </p:nvPicPr>
        <p:blipFill>
          <a:blip r:embed="rId2"/>
          <a:stretch/>
        </p:blipFill>
        <p:spPr>
          <a:xfrm>
            <a:off x="5400720" y="1287360"/>
            <a:ext cx="3605040" cy="24415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6"/>
          <p:cNvSpPr/>
          <p:nvPr/>
        </p:nvSpPr>
        <p:spPr>
          <a:xfrm>
            <a:off x="4246560" y="4243320"/>
            <a:ext cx="403200" cy="301680"/>
          </a:xfrm>
          <a:prstGeom prst="rect">
            <a:avLst/>
          </a:prstGeom>
          <a:noFill/>
          <a:ln cap="sq"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traight Connector 7"/>
          <p:cNvSpPr/>
          <p:nvPr/>
        </p:nvSpPr>
        <p:spPr>
          <a:xfrm flipV="1">
            <a:off x="4629240" y="3706920"/>
            <a:ext cx="4367160" cy="84744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traight Connector 8"/>
          <p:cNvSpPr/>
          <p:nvPr/>
        </p:nvSpPr>
        <p:spPr>
          <a:xfrm flipV="1">
            <a:off x="4248000" y="1287000"/>
            <a:ext cx="1159200" cy="297036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5418000" y="1287360"/>
            <a:ext cx="3605400" cy="2441520"/>
          </a:xfrm>
          <a:prstGeom prst="rect">
            <a:avLst/>
          </a:pr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Box 10"/>
          <p:cNvSpPr/>
          <p:nvPr/>
        </p:nvSpPr>
        <p:spPr>
          <a:xfrm>
            <a:off x="4038480" y="5921280"/>
            <a:ext cx="498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rk Energy Survey (DES) due to begin this season, will run for fiv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1"/>
          <p:cNvSpPr/>
          <p:nvPr/>
        </p:nvSpPr>
        <p:spPr>
          <a:xfrm>
            <a:off x="2828880" y="3110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LSST data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Content Placeholder 2"/>
          <p:cNvSpPr/>
          <p:nvPr/>
        </p:nvSpPr>
        <p:spPr>
          <a:xfrm>
            <a:off x="228600" y="1143000"/>
            <a:ext cx="876312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ST data policies are still in develop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lev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743040" indent="-285840">
              <a:lnSpc>
                <a:spcPct val="100000"/>
              </a:lnSpc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Level 1 – nightly delivery of raw images and partial catalo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743040" indent="-285840">
              <a:lnSpc>
                <a:spcPct val="100000"/>
              </a:lnSpc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Level 2 – stacked images and combined catalo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743040" indent="-285840">
              <a:lnSpc>
                <a:spcPct val="100000"/>
              </a:lnSpc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Level 3 – external user-derived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 posi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Transients – free, open, immediat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Levels 1 and 2 available to US and Chilean institutions when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Level 2 data may be available worldwide with an annual 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43040" indent="-285840">
              <a:lnSpc>
                <a:spcPct val="100000"/>
              </a:lnSpc>
              <a:spcAft>
                <a:spcPts val="3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Level 3 data depends on the group producing it – these are outside LS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access leveraged against financial contributions to annual operations cost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d-pro-qu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cess to other facilities (e.g. Euclid), or other contributions to the experiment, under terms yet to be negoti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groups will have access levels, probably not with unrestricted rights.  They will also not have redistribution rights to use LSST data for any purpose or project they lik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F-AST and DOE-HEP reserve approval rights over all agre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12C2-6986-4D37-AE8A-985AB5B9F63D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2ADA-8A36-4841-9E18-02E29144734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itle 1"/>
          <p:cNvSpPr/>
          <p:nvPr/>
        </p:nvSpPr>
        <p:spPr>
          <a:xfrm>
            <a:off x="259092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LSST Operations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Content Placeholder 2"/>
          <p:cNvSpPr/>
          <p:nvPr/>
        </p:nvSpPr>
        <p:spPr>
          <a:xfrm>
            <a:off x="380880" y="1143000"/>
            <a:ext cx="830592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estimate of $37M (FY11 $) annual operating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U commits NSF and DOE to respective levels recommended by decadal survey, ~$19M and ~$9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aining $9M to be covered by international part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0.7M nominal in 69 letters of intent from 23 countries ($8.2M signed by Institute Directors or other manag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 participants from 29 potential international affiliates attended LSST All Hands Meeting, from 9 countries:  Brazil, China, Hungary, Korea, New Zealand, Russia, Serbia, Switzerland, and the 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4d4d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ct to convert to firm commitments, in exchange for preferred project access, possibly including data access within proprietary period, after MREFC construction appro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rtfalls are unlikely, but could be covered either by scope reductions (identified in PDR), or NSF/DOE decisions to increase contributions (discussed in MO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D032-840D-4BAF-9581-393B9AE246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5/02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59D4-913F-494C-AB86-F922AA16B75C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3" descr="PDR-Camera.jpg"/>
          <p:cNvPicPr/>
          <p:nvPr/>
        </p:nvPicPr>
        <p:blipFill>
          <a:blip r:embed="rId1"/>
          <a:srcRect l="0" t="26954" r="1860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3"/>
          <p:cNvSpPr/>
          <p:nvPr/>
        </p:nvSpPr>
        <p:spPr>
          <a:xfrm>
            <a:off x="4419720" y="1143000"/>
            <a:ext cx="457200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c0c"/>
                </a:solidFill>
                <a:latin typeface="Arial"/>
                <a:ea typeface="Arial"/>
              </a:rPr>
              <a:t>"If you can look into the seeds of time, and say which grain will grow and which will not, speak then unto me"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cc0c0c"/>
                </a:solidFill>
                <a:latin typeface="Arial"/>
                <a:ea typeface="Arial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cc0c0c"/>
                </a:solidFill>
                <a:latin typeface="Arial"/>
                <a:ea typeface="Arial"/>
              </a:rPr>
              <a:t>(Macbeth)</a:t>
            </a:r>
            <a:r>
              <a:rPr b="0" lang="en-GB" sz="1200" spc="-1" strike="noStrike">
                <a:solidFill>
                  <a:srgbClr val="cc0c0c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2BA7-67AA-4427-AA3D-D38B52CE1960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1371600" y="3154320"/>
            <a:ext cx="58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Addition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458D-E755-4972-9427-1FD91BEE11FF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itle 1"/>
          <p:cNvSpPr/>
          <p:nvPr/>
        </p:nvSpPr>
        <p:spPr>
          <a:xfrm>
            <a:off x="2733840" y="190440"/>
            <a:ext cx="55720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NSF-DOE Memorandum of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Content Placeholder 2"/>
          <p:cNvSpPr/>
          <p:nvPr/>
        </p:nvSpPr>
        <p:spPr>
          <a:xfrm>
            <a:off x="295200" y="1523880"/>
            <a:ext cx="8467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ntered clearance at both agencies 6/8/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Common project baseline definition of scope, budget, schedule, and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Agency oversight 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Integrated project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Development of mutually agreed data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Operations con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xit and termination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  <a:ea typeface="Arial"/>
              </a:rPr>
              <a:t>MOU was signed by DOE (Director of Office of Science) and NSF (Deputy Director) on July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Telescope_Aug_2010-half"/>
          <p:cNvPicPr/>
          <p:nvPr/>
        </p:nvPicPr>
        <p:blipFill>
          <a:blip r:embed="rId1"/>
          <a:stretch/>
        </p:blipFill>
        <p:spPr>
          <a:xfrm>
            <a:off x="76320" y="1371600"/>
            <a:ext cx="5500440" cy="472428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7"/>
          <p:cNvSpPr/>
          <p:nvPr/>
        </p:nvSpPr>
        <p:spPr>
          <a:xfrm>
            <a:off x="5334120" y="1724040"/>
            <a:ext cx="365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.4 meter primary mi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6.7 m effective apert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3 gigapixel digital 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5 deg field of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 terabytes of data nigh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te coverage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le sky twice per we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yr primary 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Cerro Pachon,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t estimate $665M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-spent, then-year dolla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ing an NSF MRE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in July 2014 (NSF $466M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 $160M, other $39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F/DOE JOG meets reg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228600" y="1143000"/>
            <a:ext cx="83818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20e5"/>
                </a:solidFill>
                <a:latin typeface="Tahoma"/>
                <a:ea typeface="Tahoma"/>
              </a:rPr>
              <a:t>#1 recommendation in 2010 Astronomy &amp; Astrophysics decadal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2971800" y="228600"/>
            <a:ext cx="40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roject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30F5-4BA7-4DB1-998F-2E62F74C95B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31B9-3FA6-40D3-879C-1A5382DC47C2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2" descr="C:\Documents and Settings\mckercher\My Documents\DataProducts.JPG"/>
          <p:cNvPicPr/>
          <p:nvPr/>
        </p:nvPicPr>
        <p:blipFill>
          <a:blip r:embed="rId1"/>
          <a:stretch/>
        </p:blipFill>
        <p:spPr>
          <a:xfrm>
            <a:off x="542880" y="1162080"/>
            <a:ext cx="8096400" cy="493380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2590920" y="1602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ey deliverable Data Products and their production ca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8" descr="ti_plat13_nofnos"/>
          <p:cNvPicPr/>
          <p:nvPr/>
        </p:nvPicPr>
        <p:blipFill>
          <a:blip r:embed="rId1"/>
          <a:stretch/>
        </p:blipFill>
        <p:spPr>
          <a:xfrm>
            <a:off x="4800600" y="1143000"/>
            <a:ext cx="4105440" cy="25401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ti_plat13"/>
          <p:cNvPicPr/>
          <p:nvPr/>
        </p:nvPicPr>
        <p:blipFill>
          <a:blip r:embed="rId2"/>
          <a:stretch/>
        </p:blipFill>
        <p:spPr>
          <a:xfrm>
            <a:off x="228600" y="1143000"/>
            <a:ext cx="4040280" cy="24922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" descr="With Aero.JPG"/>
          <p:cNvPicPr/>
          <p:nvPr/>
        </p:nvPicPr>
        <p:blipFill>
          <a:blip r:embed="rId3"/>
          <a:srcRect l="23210" t="24636" r="32930" b="24160"/>
          <a:stretch/>
        </p:blipFill>
        <p:spPr>
          <a:xfrm>
            <a:off x="76320" y="3657600"/>
            <a:ext cx="4068720" cy="3071880"/>
          </a:xfrm>
          <a:prstGeom prst="rect">
            <a:avLst/>
          </a:prstGeom>
          <a:ln w="0">
            <a:noFill/>
          </a:ln>
        </p:spPr>
      </p:pic>
      <p:sp>
        <p:nvSpPr>
          <p:cNvPr id="457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1C90-CB68-4534-85C6-F46869AA1B7D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3657600" y="4516560"/>
            <a:ext cx="251460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ngled shaft wall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top “flap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no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  <a:ea typeface="Arial"/>
              </a:rPr>
              <a:t>wall panel deflector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8d8a00"/>
                </a:solidFill>
                <a:latin typeface="Arial"/>
                <a:ea typeface="Arial"/>
              </a:rPr>
              <a:t>rounded edg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effective</a:t>
            </a:r>
            <a:r>
              <a:rPr b="1" lang="en-US" sz="1200" spc="-1" strike="noStrike">
                <a:solidFill>
                  <a:srgbClr val="8d8a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4" descr="Arcadis_ob"/>
          <p:cNvPicPr/>
          <p:nvPr/>
        </p:nvPicPr>
        <p:blipFill>
          <a:blip r:embed="rId4"/>
          <a:stretch/>
        </p:blipFill>
        <p:spPr>
          <a:xfrm>
            <a:off x="6324480" y="3581280"/>
            <a:ext cx="2394000" cy="303228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6"/>
          <p:cNvSpPr/>
          <p:nvPr/>
        </p:nvSpPr>
        <p:spPr>
          <a:xfrm>
            <a:off x="2666880" y="-306720"/>
            <a:ext cx="513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Building Design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2514600" y="5814720"/>
            <a:ext cx="38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gled shaft wall, wind-channeling deflectors and curved edges proven effective and added to desig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1027080" y="312120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Original bas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5878800" y="319716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ahoma"/>
              </a:rPr>
              <a:t>With wall panel defl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11" descr="ti_plat4"/>
          <p:cNvPicPr/>
          <p:nvPr/>
        </p:nvPicPr>
        <p:blipFill>
          <a:blip r:embed="rId5"/>
          <a:stretch/>
        </p:blipFill>
        <p:spPr>
          <a:xfrm>
            <a:off x="4086360" y="1143000"/>
            <a:ext cx="866520" cy="1936800"/>
          </a:xfrm>
          <a:prstGeom prst="rect">
            <a:avLst/>
          </a:prstGeom>
          <a:ln w="0">
            <a:noFill/>
          </a:ln>
        </p:spPr>
      </p:pic>
      <p:sp>
        <p:nvSpPr>
          <p:cNvPr id="465" name="Line 8"/>
          <p:cNvSpPr/>
          <p:nvPr/>
        </p:nvSpPr>
        <p:spPr>
          <a:xfrm flipH="1">
            <a:off x="3913200" y="409572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13"/>
          <p:cNvSpPr/>
          <p:nvPr/>
        </p:nvSpPr>
        <p:spPr>
          <a:xfrm>
            <a:off x="1792440" y="3451320"/>
            <a:ext cx="2041200" cy="815760"/>
          </a:xfrm>
          <a:custGeom>
            <a:avLst/>
            <a:gdLst/>
            <a:ahLst/>
            <a:rect l="l" t="t" r="r" b="b"/>
            <a:pathLst>
              <a:path w="2042160" h="815340">
                <a:moveTo>
                  <a:pt x="7620" y="723900"/>
                </a:moveTo>
                <a:lnTo>
                  <a:pt x="198120" y="716280"/>
                </a:lnTo>
                <a:lnTo>
                  <a:pt x="464820" y="723900"/>
                </a:lnTo>
                <a:lnTo>
                  <a:pt x="861060" y="784860"/>
                </a:lnTo>
                <a:lnTo>
                  <a:pt x="1196340" y="769620"/>
                </a:lnTo>
                <a:lnTo>
                  <a:pt x="1463040" y="815340"/>
                </a:lnTo>
                <a:lnTo>
                  <a:pt x="1767840" y="746760"/>
                </a:lnTo>
                <a:lnTo>
                  <a:pt x="2042160" y="647700"/>
                </a:lnTo>
                <a:lnTo>
                  <a:pt x="2042160" y="0"/>
                </a:lnTo>
                <a:lnTo>
                  <a:pt x="0" y="0"/>
                </a:lnTo>
                <a:lnTo>
                  <a:pt x="7620" y="723900"/>
                </a:lnTo>
                <a:close/>
              </a:path>
            </a:pathLst>
          </a:cu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3809880" y="3772080"/>
            <a:ext cx="1549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402240" y="4098960"/>
            <a:ext cx="15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FD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with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mprov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6427800" y="1152360"/>
            <a:ext cx="225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ample of 2010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FD modeling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5FDB-5FF3-4E44-BA8F-10F6CD40C60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9" descr="Extra.jpg"/>
          <p:cNvPicPr/>
          <p:nvPr/>
        </p:nvPicPr>
        <p:blipFill>
          <a:blip r:embed="rId1"/>
          <a:stretch/>
        </p:blipFill>
        <p:spPr>
          <a:xfrm>
            <a:off x="237960" y="1195560"/>
            <a:ext cx="5429520" cy="5451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1063800" y="5143680"/>
            <a:ext cx="3822480" cy="1461960"/>
          </a:xfrm>
          <a:prstGeom prst="rect">
            <a:avLst/>
          </a:prstGeom>
          <a:ln w="25560">
            <a:solidFill>
              <a:srgbClr val="22228b"/>
            </a:solidFill>
            <a:miter/>
          </a:ln>
        </p:spPr>
      </p:pic>
      <p:pic>
        <p:nvPicPr>
          <p:cNvPr id="473" name="Picture 7" descr="Extra4.jpg"/>
          <p:cNvPicPr/>
          <p:nvPr/>
        </p:nvPicPr>
        <p:blipFill>
          <a:blip r:embed="rId3"/>
          <a:stretch/>
        </p:blipFill>
        <p:spPr>
          <a:xfrm>
            <a:off x="47520" y="3078000"/>
            <a:ext cx="1706760" cy="1710000"/>
          </a:xfrm>
          <a:prstGeom prst="rect">
            <a:avLst/>
          </a:prstGeom>
          <a:ln w="25560">
            <a:solidFill>
              <a:srgbClr val="22228b"/>
            </a:solidFill>
            <a:miter/>
          </a:ln>
        </p:spPr>
      </p:pic>
      <p:sp>
        <p:nvSpPr>
          <p:cNvPr id="474" name="Straight Connector 8"/>
          <p:cNvSpPr/>
          <p:nvPr/>
        </p:nvSpPr>
        <p:spPr>
          <a:xfrm>
            <a:off x="1754280" y="3078000"/>
            <a:ext cx="828720" cy="447840"/>
          </a:xfrm>
          <a:prstGeom prst="line">
            <a:avLst/>
          </a:prstGeom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traight Connector 9"/>
          <p:cNvSpPr/>
          <p:nvPr/>
        </p:nvSpPr>
        <p:spPr>
          <a:xfrm flipV="1">
            <a:off x="1754280" y="4304880"/>
            <a:ext cx="828720" cy="482760"/>
          </a:xfrm>
          <a:prstGeom prst="line">
            <a:avLst/>
          </a:prstGeom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22"/>
          <p:cNvSpPr/>
          <p:nvPr/>
        </p:nvSpPr>
        <p:spPr>
          <a:xfrm>
            <a:off x="2120400" y="1125360"/>
            <a:ext cx="19728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DI Full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ep. 13, 201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23"/>
          <p:cNvSpPr/>
          <p:nvPr/>
        </p:nvSpPr>
        <p:spPr>
          <a:xfrm>
            <a:off x="318960" y="26971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CD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24"/>
          <p:cNvGrpSpPr/>
          <p:nvPr/>
        </p:nvGrpSpPr>
        <p:grpSpPr>
          <a:xfrm>
            <a:off x="4199040" y="2941560"/>
            <a:ext cx="1892160" cy="1967400"/>
            <a:chOff x="4199040" y="2941560"/>
            <a:chExt cx="1892160" cy="1967400"/>
          </a:xfrm>
        </p:grpSpPr>
        <p:pic>
          <p:nvPicPr>
            <p:cNvPr id="479" name="Picture 13" descr=""/>
            <p:cNvPicPr/>
            <p:nvPr/>
          </p:nvPicPr>
          <p:blipFill>
            <a:blip r:embed="rId4"/>
            <a:stretch/>
          </p:blipFill>
          <p:spPr>
            <a:xfrm>
              <a:off x="4199040" y="2941560"/>
              <a:ext cx="1892160" cy="1949760"/>
            </a:xfrm>
            <a:prstGeom prst="rect">
              <a:avLst/>
            </a:prstGeom>
            <a:ln w="25560">
              <a:solidFill>
                <a:srgbClr val="22228b"/>
              </a:solidFill>
              <a:miter/>
            </a:ln>
          </p:spPr>
        </p:pic>
        <p:sp>
          <p:nvSpPr>
            <p:cNvPr id="480" name="TextBox 26"/>
            <p:cNvSpPr/>
            <p:nvPr/>
          </p:nvSpPr>
          <p:spPr>
            <a:xfrm>
              <a:off x="4217040" y="3661560"/>
              <a:ext cx="953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lended Pa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TextBox 27"/>
            <p:cNvSpPr/>
            <p:nvPr/>
          </p:nvSpPr>
          <p:spPr>
            <a:xfrm>
              <a:off x="5272560" y="366156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mpl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Box 28"/>
            <p:cNvSpPr/>
            <p:nvPr/>
          </p:nvSpPr>
          <p:spPr>
            <a:xfrm>
              <a:off x="4306320" y="466272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F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Box 29"/>
            <p:cNvSpPr/>
            <p:nvPr/>
          </p:nvSpPr>
          <p:spPr>
            <a:xfrm>
              <a:off x="5203440" y="4662720"/>
              <a:ext cx="871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-blen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TextBox 18"/>
          <p:cNvSpPr/>
          <p:nvPr/>
        </p:nvSpPr>
        <p:spPr>
          <a:xfrm>
            <a:off x="2313000" y="6049800"/>
            <a:ext cx="228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arly results show excellent agreement with proven soft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Content Placeholder 3"/>
          <p:cNvSpPr/>
          <p:nvPr/>
        </p:nvSpPr>
        <p:spPr>
          <a:xfrm>
            <a:off x="5819760" y="1177920"/>
            <a:ext cx="332424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LSST wavefront sensing pipeline tested on new partial One Degree Imager (pODI) at WIY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SST wavefront software is open source and is designed for general analysis of intra/extra focal image pai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Content Placeholder 3"/>
          <p:cNvSpPr/>
          <p:nvPr/>
        </p:nvSpPr>
        <p:spPr>
          <a:xfrm>
            <a:off x="6219720" y="3522600"/>
            <a:ext cx="284796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arly commissioning tests show excellent agreement with obsolete, unsupported (but proven)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-blending algorithm shown to be effective, maximizing the available 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SST &amp; ODI teams working together to analyze pODI align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21"/>
          <p:cNvSpPr/>
          <p:nvPr/>
        </p:nvSpPr>
        <p:spPr>
          <a:xfrm>
            <a:off x="22320" y="3560760"/>
            <a:ext cx="182520" cy="182520"/>
          </a:xfrm>
          <a:prstGeom prst="ellipse">
            <a:avLst/>
          </a:prstGeom>
          <a:noFill/>
          <a:ln w="9360">
            <a:solidFill>
              <a:srgbClr val="22228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22"/>
          <p:cNvCxnSpPr>
            <a:stCxn id="487" idx="5"/>
          </p:cNvCxnSpPr>
          <p:nvPr/>
        </p:nvCxnSpPr>
        <p:spPr>
          <a:xfrm>
            <a:off x="177480" y="3716280"/>
            <a:ext cx="894600" cy="1656720"/>
          </a:xfrm>
          <a:prstGeom prst="straightConnector1">
            <a:avLst/>
          </a:prstGeom>
          <a:ln w="25560">
            <a:solidFill>
              <a:srgbClr val="2d2db9"/>
            </a:solidFill>
            <a:miter/>
            <a:tailEnd len="med" type="arrow" w="med"/>
          </a:ln>
        </p:spPr>
      </p:cxnSp>
      <p:sp>
        <p:nvSpPr>
          <p:cNvPr id="489" name="Title 1"/>
          <p:cNvSpPr/>
          <p:nvPr/>
        </p:nvSpPr>
        <p:spPr>
          <a:xfrm>
            <a:off x="2362320" y="228600"/>
            <a:ext cx="596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ecent Project Accomplis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A99C-C38E-4D35-B371-6330EEF88C5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Picture 2" descr="mysql-logo.jpg"/>
          <p:cNvPicPr/>
          <p:nvPr/>
        </p:nvPicPr>
        <p:blipFill>
          <a:blip r:embed="rId1"/>
          <a:stretch/>
        </p:blipFill>
        <p:spPr>
          <a:xfrm>
            <a:off x="3112920" y="3208320"/>
            <a:ext cx="763920" cy="555480"/>
          </a:xfrm>
          <a:prstGeom prst="rect">
            <a:avLst/>
          </a:prstGeom>
          <a:ln w="0">
            <a:noFill/>
          </a:ln>
        </p:spPr>
      </p:pic>
      <p:sp>
        <p:nvSpPr>
          <p:cNvPr id="492" name="Title 1"/>
          <p:cNvSpPr/>
          <p:nvPr/>
        </p:nvSpPr>
        <p:spPr>
          <a:xfrm>
            <a:off x="2143080" y="206280"/>
            <a:ext cx="61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SST scalable database leverages worldwide community develop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Content Placeholder 3"/>
          <p:cNvSpPr/>
          <p:nvPr/>
        </p:nvSpPr>
        <p:spPr>
          <a:xfrm>
            <a:off x="4829040" y="1822320"/>
            <a:ext cx="4038840" cy="42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Very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successful XLDB-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00+ attend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rengthened team’s world-wide leadership position in extreme scale data management and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am instrumental in defining ArrayQL (a query language standard and algebra for array databa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nounced at XLDB-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iously exploring XLDB Consortium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Announced at  XLDB-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Opportunity to attract serious f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~20 companies responded so f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Content Placeholder 5"/>
          <p:cNvSpPr/>
          <p:nvPr/>
        </p:nvSpPr>
        <p:spPr>
          <a:xfrm>
            <a:off x="95400" y="1747800"/>
            <a:ext cx="461952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serv packaged for easy multi-node install/admin and successfully installed by IN2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monstrated on Winter 2012 at A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ne tuning qserv architecture: integrating with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as alternative to 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Valuable proof that the database architecture is RDBMS agnostic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ossible performance gains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(columnar vs row-based technolog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Working closely with the MonetDB team for  qserv+MonetDB prototype later this yea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50 node test accomplished last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rge scale test on JHU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Planned scale: comparable to DR1 (1/4 P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Exploring option of using ImSim to generate test 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6" descr="logo_monetdb.png"/>
          <p:cNvPicPr/>
          <p:nvPr/>
        </p:nvPicPr>
        <p:blipFill>
          <a:blip r:embed="rId2"/>
          <a:stretch/>
        </p:blipFill>
        <p:spPr>
          <a:xfrm>
            <a:off x="485640" y="3282840"/>
            <a:ext cx="879480" cy="370080"/>
          </a:xfrm>
          <a:prstGeom prst="rect">
            <a:avLst/>
          </a:prstGeom>
          <a:ln w="0">
            <a:noFill/>
          </a:ln>
        </p:spPr>
      </p:pic>
      <p:sp>
        <p:nvSpPr>
          <p:cNvPr id="496" name="TextBox 7"/>
          <p:cNvSpPr/>
          <p:nvPr/>
        </p:nvSpPr>
        <p:spPr>
          <a:xfrm>
            <a:off x="1778760" y="11476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ser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8" descr="xldb2012_logo.jpg"/>
          <p:cNvPicPr/>
          <p:nvPr/>
        </p:nvPicPr>
        <p:blipFill>
          <a:blip r:embed="rId3"/>
          <a:stretch/>
        </p:blipFill>
        <p:spPr>
          <a:xfrm>
            <a:off x="5853240" y="1160640"/>
            <a:ext cx="1420560" cy="52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DC2E-EA4C-4548-A62D-0FB7F0D5F2CD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itle 1"/>
          <p:cNvSpPr/>
          <p:nvPr/>
        </p:nvSpPr>
        <p:spPr>
          <a:xfrm>
            <a:off x="2513160" y="123840"/>
            <a:ext cx="54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road uses for LSST data storage techniques recog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Content Placeholder 4" descr="img_23296_astronomy data storage--rgov-800width.jpg"/>
          <p:cNvPicPr/>
          <p:nvPr/>
        </p:nvPicPr>
        <p:blipFill>
          <a:blip r:embed="rId1"/>
          <a:stretch/>
        </p:blipFill>
        <p:spPr>
          <a:xfrm>
            <a:off x="314280" y="1192320"/>
            <a:ext cx="4038480" cy="3106800"/>
          </a:xfrm>
          <a:prstGeom prst="rect">
            <a:avLst/>
          </a:prstGeom>
          <a:ln w="0">
            <a:noFill/>
          </a:ln>
        </p:spPr>
      </p:pic>
      <p:sp>
        <p:nvSpPr>
          <p:cNvPr id="501" name="Content Placeholder 3"/>
          <p:cNvSpPr/>
          <p:nvPr/>
        </p:nvSpPr>
        <p:spPr>
          <a:xfrm>
            <a:off x="4543560" y="1163520"/>
            <a:ext cx="4410000" cy="48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herical partitioning with overlapping edges developed by LSST database team for efficient searching of enormous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chnique shown to be linearly scalable without degrading system perform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ful in many fields that store spatial information (maps) and information that changes with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inancial sec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eosciences; Climate model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raud detection; internet usage behavi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dical imaging; Drug discove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il and gas explo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atured as a Research.gov highligh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5" descr="por_main_fig1.jpg"/>
          <p:cNvPicPr/>
          <p:nvPr/>
        </p:nvPicPr>
        <p:blipFill>
          <a:blip r:embed="rId2"/>
          <a:stretch/>
        </p:blipFill>
        <p:spPr>
          <a:xfrm>
            <a:off x="272880" y="4581360"/>
            <a:ext cx="419436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0EC6-A1AF-403E-9400-5E7FF763EA27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itle 1"/>
          <p:cNvSpPr/>
          <p:nvPr/>
        </p:nvSpPr>
        <p:spPr>
          <a:xfrm>
            <a:off x="2676600" y="150840"/>
            <a:ext cx="54086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012 LSST All Hands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Content Placeholder 5" descr="Michael_Shirt.JPG"/>
          <p:cNvPicPr/>
          <p:nvPr/>
        </p:nvPicPr>
        <p:blipFill>
          <a:blip r:embed="rId1"/>
          <a:stretch/>
        </p:blipFill>
        <p:spPr>
          <a:xfrm>
            <a:off x="162000" y="1295280"/>
            <a:ext cx="4133880" cy="25815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5"/>
          <p:cNvSpPr/>
          <p:nvPr/>
        </p:nvSpPr>
        <p:spPr>
          <a:xfrm>
            <a:off x="4429080" y="1322280"/>
            <a:ext cx="4600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ust 13 - 17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7 particip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177840">
              <a:lnSpc>
                <a:spcPct val="100000"/>
              </a:lnSpc>
              <a:buClr>
                <a:srgbClr val="000000"/>
              </a:buClr>
              <a:buFont typeface="Calibri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0 members of Science Collabo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177840">
              <a:lnSpc>
                <a:spcPct val="100000"/>
              </a:lnSpc>
              <a:buClr>
                <a:srgbClr val="000000"/>
              </a:buClr>
              <a:buFont typeface="Calibri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2 Technical Team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177840">
              <a:lnSpc>
                <a:spcPct val="100000"/>
              </a:lnSpc>
              <a:buClr>
                <a:srgbClr val="000000"/>
              </a:buClr>
              <a:buFont typeface="Calibri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2 participants from 29 potential International Affil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days for formal in informal inte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177840">
              <a:lnSpc>
                <a:spcPct val="100000"/>
              </a:lnSpc>
              <a:buClr>
                <a:srgbClr val="000000"/>
              </a:buClr>
              <a:buFont typeface="Calibri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2 plenary tal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177840">
              <a:lnSpc>
                <a:spcPct val="100000"/>
              </a:lnSpc>
              <a:buClr>
                <a:srgbClr val="000000"/>
              </a:buClr>
              <a:buFont typeface="Calibri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9 detailed working group breako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4 participant survey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177840">
              <a:lnSpc>
                <a:spcPct val="100000"/>
              </a:lnSpc>
              <a:buClr>
                <a:srgbClr val="000000"/>
              </a:buClr>
              <a:buFont typeface="Calibri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5% extremely or quite produ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760" indent="-177840">
              <a:lnSpc>
                <a:spcPct val="100000"/>
              </a:lnSpc>
              <a:buClr>
                <a:srgbClr val="000000"/>
              </a:buClr>
              <a:buFont typeface="Calibri"/>
              <a:buChar char="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3% extremely or quite likely to attend next A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Content Placeholder 10" descr="IMG_8162%202.JPG"/>
          <p:cNvPicPr/>
          <p:nvPr/>
        </p:nvPicPr>
        <p:blipFill>
          <a:blip r:embed="rId2"/>
          <a:stretch/>
        </p:blipFill>
        <p:spPr>
          <a:xfrm>
            <a:off x="162000" y="4016520"/>
            <a:ext cx="413388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2971800" y="228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Project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17760" y="5771520"/>
            <a:ext cx="1836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6" descr="LSST_exterior.jpg"/>
          <p:cNvPicPr/>
          <p:nvPr/>
        </p:nvPicPr>
        <p:blipFill>
          <a:blip r:embed="rId1"/>
          <a:stretch/>
        </p:blipFill>
        <p:spPr>
          <a:xfrm>
            <a:off x="76320" y="1143000"/>
            <a:ext cx="3946320" cy="19209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228600" y="3657600"/>
            <a:ext cx="49179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Probing dark matter &amp; dark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Order of magnitude impr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Mapping the Milky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Formation 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An Inventory of the Solar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Potentially hazardous astero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The Transient Optical S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Opening the Time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3987720" y="1143000"/>
            <a:ext cx="50040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Arial"/>
              </a:rPr>
              <a:t>A ten year experiment to reach specific scientific goals, with well defined delive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Arial"/>
              </a:rPr>
              <a:t>Not just another telescope –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LSST is a data driven instrument with a prime mission of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Arial"/>
              </a:rPr>
              <a:t>transformative discovery throughout astro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2" descr="singleDepth.jpg"/>
          <p:cNvPicPr/>
          <p:nvPr/>
        </p:nvPicPr>
        <p:blipFill>
          <a:blip r:embed="rId2"/>
          <a:stretch/>
        </p:blipFill>
        <p:spPr>
          <a:xfrm>
            <a:off x="5433840" y="3289320"/>
            <a:ext cx="3048120" cy="3152880"/>
          </a:xfrm>
          <a:prstGeom prst="rect">
            <a:avLst/>
          </a:prstGeom>
          <a:ln w="0">
            <a:noFill/>
          </a:ln>
        </p:spPr>
      </p:pic>
      <p:sp>
        <p:nvSpPr>
          <p:cNvPr id="373" name="TextBox 13"/>
          <p:cNvSpPr/>
          <p:nvPr/>
        </p:nvSpPr>
        <p:spPr>
          <a:xfrm>
            <a:off x="5468760" y="636264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 driven by science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Box 1"/>
          <p:cNvSpPr/>
          <p:nvPr/>
        </p:nvSpPr>
        <p:spPr>
          <a:xfrm>
            <a:off x="246240" y="3249720"/>
            <a:ext cx="43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Four Primary Science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41E3-562F-48EC-91B4-D39D243BFE8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9CF0-4322-4585-A902-513F7D2F3415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itle 1"/>
          <p:cNvSpPr/>
          <p:nvPr/>
        </p:nvSpPr>
        <p:spPr>
          <a:xfrm>
            <a:off x="2971800" y="228600"/>
            <a:ext cx="434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roject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Content Placeholder 2"/>
          <p:cNvSpPr/>
          <p:nvPr/>
        </p:nvSpPr>
        <p:spPr>
          <a:xfrm>
            <a:off x="76320" y="1209600"/>
            <a:ext cx="8991360" cy="58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NSF Preliminary Design Review (PDR) – included camera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interfaces from technical/managerial persp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c0c"/>
                </a:solidFill>
                <a:latin typeface="Arial Black"/>
                <a:ea typeface="Arial"/>
              </a:rPr>
              <a:t>“</a:t>
            </a:r>
            <a:r>
              <a:rPr b="1" lang="en-US" sz="1800" spc="-1" strike="noStrike">
                <a:solidFill>
                  <a:srgbClr val="cc0c0c"/>
                </a:solidFill>
                <a:latin typeface="Arial Black"/>
                <a:ea typeface="Arial"/>
              </a:rPr>
              <a:t>The Panel considers that the LSST project 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c0c"/>
                </a:solidFill>
                <a:latin typeface="Arial Black"/>
                <a:ea typeface="Arial"/>
              </a:rPr>
              <a:t>met the requirements for PD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DOE CD-1 ‘Lehman’ review of the 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c0c"/>
                </a:solidFill>
                <a:latin typeface="Arial Black"/>
                <a:ea typeface="Arial"/>
              </a:rPr>
              <a:t>The project met all the CD-1 prerequisites “and in some areas has even significantly exceeded them” (DOE sign-off, April 20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Recommendations echoed by NSF’s internal MREF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 Black"/>
                <a:ea typeface="Arial"/>
              </a:rPr>
              <a:t>Anticipate that LSST shou</a:t>
            </a:r>
            <a:r>
              <a:rPr b="1" lang="en-US" sz="1800" spc="-1" strike="noStrike">
                <a:solidFill>
                  <a:srgbClr val="c00000"/>
                </a:solidFill>
                <a:latin typeface="Arial Black"/>
                <a:ea typeface="ＭＳ Ｐゴシック"/>
              </a:rPr>
              <a:t>ld be the next project to receive NSF MREFC funds for construction, conditional on completion 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n NSF-DOE joint systems engineering review of the whol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 Black"/>
                <a:ea typeface="Arial"/>
              </a:rPr>
              <a:t>6/01/2012: “LSST team has met the expected standards for this review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A signed agreement with DOE in anticipation of a detailed Memorandum of Understanding (MO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 Black"/>
                <a:ea typeface="Arial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Arial Black"/>
                <a:ea typeface="Arial"/>
              </a:rPr>
              <a:t>MOU signed 7/12/2012 (statement of intent signed 4/16/20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CDE1-71E2-4862-B9C4-0A59A4367A76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itle 1"/>
          <p:cNvSpPr/>
          <p:nvPr/>
        </p:nvSpPr>
        <p:spPr>
          <a:xfrm>
            <a:off x="2533680" y="179280"/>
            <a:ext cx="523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ecommendations &amp;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Content Placeholder 2"/>
          <p:cNvSpPr/>
          <p:nvPr/>
        </p:nvSpPr>
        <p:spPr>
          <a:xfrm>
            <a:off x="123840" y="1523880"/>
            <a:ext cx="8848800" cy="54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NSF and DOE need to align their annual funding pro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 Black"/>
                <a:ea typeface="Arial"/>
              </a:rPr>
              <a:t>Carried out shortly after CD-1 revi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 Black"/>
                <a:ea typeface="Arial"/>
              </a:rPr>
              <a:t>NSF scope was subject to a cost estimation</a:t>
            </a:r>
            <a:r>
              <a:rPr b="0" lang="en-US" sz="2000" spc="-1" strike="noStrike">
                <a:solidFill>
                  <a:srgbClr val="c00000"/>
                </a:solidFill>
                <a:latin typeface="Arial Black"/>
                <a:ea typeface="ＭＳ Ｐゴシック"/>
              </a:rPr>
              <a:t> review (CER), passed on May 16, 20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 Black"/>
                <a:ea typeface="ＭＳ Ｐゴシック"/>
              </a:rPr>
              <a:t>CER recommended small changes that altered the TP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 Black"/>
                <a:ea typeface="ＭＳ Ｐゴシック"/>
              </a:rPr>
              <a:t>NSF </a:t>
            </a:r>
            <a:r>
              <a:rPr b="0" lang="en-US" sz="2000" spc="-1" strike="noStrike">
                <a:solidFill>
                  <a:srgbClr val="c00000"/>
                </a:solidFill>
                <a:latin typeface="Arial Black"/>
                <a:ea typeface="Arial"/>
              </a:rPr>
              <a:t>total project cost (TPC) $466M over 7 yrs, 3 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tended duration to synchronize with DOE camera f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Risk of increased TPC if annual funding profile cannot be 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 Black"/>
                <a:ea typeface="Arial"/>
              </a:rPr>
              <a:t>DOE total $1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Now properly synchronized with NSF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Some other recommendations met or being 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etter quality assurance; total project systems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 Black"/>
                <a:ea typeface="Arial"/>
              </a:rPr>
              <a:t>Two systems engineers hired (one senior, one jun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E5EC-9B4F-4CCC-8F84-579DF0B6820A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2"/>
          <p:cNvSpPr/>
          <p:nvPr/>
        </p:nvSpPr>
        <p:spPr>
          <a:xfrm>
            <a:off x="228600" y="1219320"/>
            <a:ext cx="8686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National Scienc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jor Actions &amp; Approvals at the July 17-18, 2012 Mee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jor actions and approvals at the 427th meeting of the Board included the following (not in priority order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The Board authorized the Director, at his discretion, to include the construction of the Large Synoptic Survey Telescope (LSST) in a future budget.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SB-12-3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itle 1"/>
          <p:cNvSpPr/>
          <p:nvPr/>
        </p:nvSpPr>
        <p:spPr>
          <a:xfrm>
            <a:off x="3809880" y="304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1295280" y="53341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Arial Black"/>
              </a:rPr>
              <a:t>When?  Stay tuned – we don’t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B254-025A-475A-BF72-481BA2E3CCA1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itle 1"/>
          <p:cNvSpPr/>
          <p:nvPr/>
        </p:nvSpPr>
        <p:spPr>
          <a:xfrm>
            <a:off x="2619360" y="162720"/>
            <a:ext cx="51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otential placement in NSF MREFC current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Picture 8" descr="MREFC_LSST_FY13.GIF"/>
          <p:cNvPicPr/>
          <p:nvPr/>
        </p:nvPicPr>
        <p:blipFill>
          <a:blip r:embed="rId1"/>
          <a:stretch/>
        </p:blipFill>
        <p:spPr>
          <a:xfrm>
            <a:off x="909720" y="1209600"/>
            <a:ext cx="7324560" cy="4838760"/>
          </a:xfrm>
          <a:prstGeom prst="rect">
            <a:avLst/>
          </a:prstGeom>
          <a:ln w="0">
            <a:noFill/>
          </a:ln>
        </p:spPr>
      </p:pic>
      <p:sp>
        <p:nvSpPr>
          <p:cNvPr id="389" name="TextBox 9"/>
          <p:cNvSpPr/>
          <p:nvPr/>
        </p:nvSpPr>
        <p:spPr>
          <a:xfrm>
            <a:off x="1828800" y="6159600"/>
            <a:ext cx="701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rom the NSF FY13 budget request, with LSST added for illustration purpo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1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756F-C0F6-4AAD-ABEB-9F58C9CFADE3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438280" y="268200"/>
            <a:ext cx="58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Project coordinated timeline (if MREFC in FY14); camera delivery to summit July 20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4" descr="forNigelMREFCtimeline2012dws.jpg"/>
          <p:cNvPicPr/>
          <p:nvPr/>
        </p:nvPicPr>
        <p:blipFill>
          <a:blip r:embed="rId1"/>
          <a:stretch/>
        </p:blipFill>
        <p:spPr>
          <a:xfrm>
            <a:off x="190440" y="1084320"/>
            <a:ext cx="8658360" cy="55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11" descr=""/>
          <p:cNvPicPr/>
          <p:nvPr/>
        </p:nvPicPr>
        <p:blipFill>
          <a:blip r:embed="rId1"/>
          <a:stretch/>
        </p:blipFill>
        <p:spPr>
          <a:xfrm>
            <a:off x="190440" y="3919680"/>
            <a:ext cx="4294080" cy="27097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394" name="Rectangle 7"/>
          <p:cNvSpPr/>
          <p:nvPr/>
        </p:nvSpPr>
        <p:spPr>
          <a:xfrm>
            <a:off x="8610480" y="647712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B38B-80FD-4B3F-AF65-859CBE4AD465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Content Placeholder 4" descr="M1M3_LOG.jpg"/>
          <p:cNvPicPr/>
          <p:nvPr/>
        </p:nvPicPr>
        <p:blipFill>
          <a:blip r:embed="rId2"/>
          <a:stretch/>
        </p:blipFill>
        <p:spPr>
          <a:xfrm>
            <a:off x="190440" y="1163520"/>
            <a:ext cx="4305240" cy="2644920"/>
          </a:xfrm>
          <a:prstGeom prst="rect">
            <a:avLst/>
          </a:prstGeom>
          <a:ln w="0">
            <a:noFill/>
          </a:ln>
        </p:spPr>
      </p:pic>
      <p:sp>
        <p:nvSpPr>
          <p:cNvPr id="396" name="Content Placeholder 3"/>
          <p:cNvSpPr/>
          <p:nvPr/>
        </p:nvSpPr>
        <p:spPr>
          <a:xfrm>
            <a:off x="4648320" y="1163520"/>
            <a:ext cx="425772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M1/M3 Mirror Fig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Optical Polishing has commenced – the last and most challenging ste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acceptance testing scheduled for late 20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tons of excess material already removed to generate rough optical surface of M1/M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ose abrasive grinding resulted in initial optical sha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ogram shows surface deviations on the order of microns, aiming for nanome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 enabled by private fu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itle 1"/>
          <p:cNvSpPr/>
          <p:nvPr/>
        </p:nvSpPr>
        <p:spPr>
          <a:xfrm>
            <a:off x="2362320" y="228600"/>
            <a:ext cx="596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Recent Project Accomplis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23:47:59Z</dcterms:created>
  <dc:creator>NSHARP</dc:creator>
  <dc:description/>
  <dc:language>en-US</dc:language>
  <cp:lastModifiedBy>Nigel Sharp</cp:lastModifiedBy>
  <dcterms:modified xsi:type="dcterms:W3CDTF">2012-11-29T23:37:33Z</dcterms:modified>
  <cp:revision>394</cp:revision>
  <dc:subject>MREFC Jan.2012</dc:subject>
  <dc:title>LSST</dc:title>
</cp:coreProperties>
</file>